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D81-7C19-4E54-B39E-707A7571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D71-3D17-408B-809B-5F9135E3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28F-0802-47B1-84E6-96D0CC05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D98-7E62-403F-BEF4-1CFFBC8A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207-CCB4-41B2-B87E-70DA42D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664-78CA-4BE3-AAE5-B39DE60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A80-8E24-4012-8726-3F771ED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202-1F2D-4DD9-837A-96A4271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948-9C4F-4031-8E9E-7DF8547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0D7-C6A2-4F07-9D0D-B13F871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222-608A-4B18-A810-E39A277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7DC-6EE6-47A9-A18E-94FD3C41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5D6B-D37D-48EA-AD15-2E9CB248CC79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55640" y="19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3042b"/>
                </a:solidFill>
                <a:latin typeface="Trebuchet MS"/>
                <a:cs typeface="AL-Mateen"/>
              </a:rPr>
              <a:t>الملتقى الأول للتجارب المتميز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3042b"/>
                </a:solidFill>
                <a:latin typeface="Trebuchet MS"/>
                <a:cs typeface="AL-Mateen"/>
              </a:rPr>
              <a:t>للجمعيات الخيرية السعودية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4869000"/>
            <a:ext cx="6400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جامعة المجم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الاثنين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11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 صفر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1434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ه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C:\Users\o.okasha\Desktop\الملتقى\Untitled-2.jpg"/>
          <p:cNvPicPr/>
          <p:nvPr/>
        </p:nvPicPr>
        <p:blipFill>
          <a:blip r:embed="rId1"/>
          <a:stretch/>
        </p:blipFill>
        <p:spPr>
          <a:xfrm>
            <a:off x="4059360" y="828720"/>
            <a:ext cx="950760" cy="682560"/>
          </a:xfrm>
          <a:prstGeom prst="rect">
            <a:avLst/>
          </a:prstGeom>
          <a:ln w="0">
            <a:noFill/>
          </a:ln>
        </p:spPr>
      </p:pic>
      <p:pic>
        <p:nvPicPr>
          <p:cNvPr id="82" name="صورة 8" descr="majmaah-logo.png"/>
          <p:cNvPicPr/>
          <p:nvPr/>
        </p:nvPicPr>
        <p:blipFill>
          <a:blip r:embed="rId2"/>
          <a:stretch/>
        </p:blipFill>
        <p:spPr>
          <a:xfrm>
            <a:off x="6875640" y="692280"/>
            <a:ext cx="1771560" cy="866520"/>
          </a:xfrm>
          <a:prstGeom prst="rect">
            <a:avLst/>
          </a:prstGeom>
          <a:ln w="0">
            <a:noFill/>
          </a:ln>
        </p:spPr>
      </p:pic>
      <p:pic>
        <p:nvPicPr>
          <p:cNvPr id="83" name="صورة 9" descr="mohe_2012_12.png"/>
          <p:cNvPicPr/>
          <p:nvPr/>
        </p:nvPicPr>
        <p:blipFill>
          <a:blip r:embed="rId3"/>
          <a:stretch/>
        </p:blipFill>
        <p:spPr>
          <a:xfrm>
            <a:off x="468360" y="765000"/>
            <a:ext cx="19908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524720" y="-49320"/>
            <a:ext cx="13827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اسم الجه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625200" y="213156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جمعية أسر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118280" y="263520"/>
            <a:ext cx="2075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اسم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26760" y="2244600"/>
            <a:ext cx="78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"/>
              </a:rPr>
              <a:t>تجربة جمعية أسرتي في الإدارة المؤسسية والتخطي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929640" y="263520"/>
            <a:ext cx="22320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أهمية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مستطيل 2"/>
          <p:cNvSpPr/>
          <p:nvPr/>
        </p:nvSpPr>
        <p:spPr>
          <a:xfrm>
            <a:off x="755640" y="220500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مكانية تطبيق التجربة على الجمعيات الخيرية والحصول على نتائج إيجابية مشابهة من خلال التطوير الإداري في الجمع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6808320" y="263520"/>
            <a:ext cx="2382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أهداف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042920" y="1953360"/>
            <a:ext cx="727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"/>
              </a:rPr>
              <a:t>تحويل الجمعية من العمل التقليدي إلى العمل المؤسسي من خلال تطوير: الجانب الإداري والتقني, الكادر البشري, الهوية, الخدمات, تنمية الموارد والاستثم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667200" y="263520"/>
            <a:ext cx="2521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إجراءات التنفي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483920"/>
            <a:ext cx="813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الجانب الإداري والتقني: عمل خطة استراتيجية لمدة 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3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 سنوات وتوصيف إجراءات الجمعية. 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تطوير عدد من البرامج الإلكترونية لدعم خدمات الجمعية والموقع الإلكتروني.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الكادر البشري: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توظيف واستقطاب ثم استثمار الكفاءات المتميزة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الهوية: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الترويج للجمعية باستراتيجية جديدة وتصميم شعار جاذب ومعبر.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الخدمات: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تكوين فرق عمل علمية لتطوير الحقائب التدريبية.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تنويع البرامج الأكاديمية للوصول إلى أكبر شريحة ممكنة من المجتمع.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تقديم عدد من الدراسات لخدمة المشاريع الأسرية التي تقدمها الجمعية.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تنمية الموارد والاستثمار: بناء عدد من الأوقاف بقيمة سوقية قدرت بـ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155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 مليون ريال.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	</a:t>
            </a:r>
            <a:r>
              <a:rPr b="0" lang="ar-SA" sz="2000" spc="-1" strike="noStrike">
                <a:solidFill>
                  <a:srgbClr val="03042b"/>
                </a:solidFill>
                <a:latin typeface="Trebuchet MS"/>
              </a:rPr>
              <a:t>دعم آليات ومسارات تبرع جديدة وتصنيف العملاء المستهدفين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marL="288000" indent="-288000" algn="r" rtl="1">
              <a:spcBef>
                <a:spcPts val="4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6924240" y="263520"/>
            <a:ext cx="2084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نتائج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591480"/>
            <a:ext cx="87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ترسيخ ثقافة العمل المؤسسي التي تدعم وتحافظ على التحسين المستم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زيادة في الإنتاجية حيث زادت الأنشطة والفعاليات بنسب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118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% عن السنوات السابق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زيادة في ثقة المانحين والداعمين بحيث زادت التبرعات النقدية بنسبة تراكمية تجاوز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3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تطور في مقاييس الأداء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مزيد من التكامل والإتقان للعمل الخيري وزيادة الاستثمارات بنسب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تقليل إجراءات العمل الروتينية واختصارها من حيث الوقت والتكلفة بطريقة منهجية بحيث انخفضت المصاريف التشغيلية بنسبة تراكمية زادت ع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2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اتخاذ القرارات على أساس الحقائق لا الافتراضا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أصبحت نسبة المتفرغين بالعمل في الجمعي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98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% من إجمالي الموظفين مما يؤكد تقوية الولاء للعم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زيادة في الإيرادات بحيث تجاوزت الأرباح لعا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143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ه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63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% بينما كانت في السنوات الماضية تحقق عجزا متكررا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037920" y="235440"/>
            <a:ext cx="3172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نجاح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6171120" y="307800"/>
            <a:ext cx="3115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تميز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08:53:38Z</dcterms:created>
  <dc:creator>o.okasha</dc:creator>
  <dc:description/>
  <cp:keywords>Education</cp:keywords>
  <dc:language>en-US</dc:language>
  <cp:lastModifiedBy>o.okasha</cp:lastModifiedBy>
  <dcterms:modified xsi:type="dcterms:W3CDTF">2012-12-23T14:06:40Z</dcterms:modified>
  <cp:revision>8</cp:revision>
  <dc:subject>Template Ready</dc:subject>
  <dc:title>الشريحة 1</dc:title>
</cp:coreProperties>
</file>